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098-16F9-4A6C-AD9D-FCE96CF1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3D9-8426-4912-8848-0B4258EA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952-8A7D-4467-AE10-5F96FE5A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340-A522-428F-9BE0-1CDE5DB8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150-A725-49DC-B526-F74E87DF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411-F9ED-488D-8FB2-D10501A7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E68-4BA7-493E-A49B-8A084B2D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CD4-F53F-433D-8431-86969069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A42-EDA5-460D-994D-C25F7820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44D-24B4-4B1E-8FD9-82A01CE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2C6-E30D-4FC5-BC30-AA79A004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B1E-DB6C-4A53-9041-DB59971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C794-FCEE-49E9-A9D0-745CE731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25:52Z</dcterms:created>
  <dc:creator>abeason</dc:creator>
  <dc:description/>
  <dc:language>en-US</dc:language>
  <cp:lastModifiedBy>abeason</cp:lastModifiedBy>
  <dcterms:modified xsi:type="dcterms:W3CDTF">2008-12-18T17:25:55Z</dcterms:modified>
  <cp:revision>1</cp:revision>
  <dc:subject/>
  <dc:title>Slide 1</dc:title>
</cp:coreProperties>
</file>